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F370-D052-4C31-84C3-892DCDF5E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C831-86ED-495F-A211-FB2BB5DD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26F7-863B-4E12-AF01-1675ABA25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99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9572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99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9572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A0B4-3282-4862-93D2-25F3686CBC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DC0B-B354-458B-8A98-5F8430B64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C4CC1-DAE5-4078-B6C4-2FB0EC4B4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7445-3CCB-4724-B251-E4AB49120D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47BB-6A92-4084-92DD-7722ED8A47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FD30-8421-4267-B727-90A0DE39F2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99840" y="-360"/>
            <a:ext cx="83804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245F-E2DB-4E18-A091-DFDFB56EF5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1AD2-1DD1-4BEC-BAD9-70F6953602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0938-A93D-4F80-9829-4E39AFE0A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83681-0C13-416E-99F5-03D94FC7AD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C31F-E2F3-42AE-8AC1-624BF2AFB3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4007-88A9-4B27-AC28-368B4B958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A4F3-6E10-400F-BFBA-5A5EDBFAF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996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95720" y="152352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996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95720" y="4691160"/>
            <a:ext cx="30906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B621-F122-4729-8BF9-97DE21119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8E458-14DA-47AE-B221-F54970875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0DE1-FC64-48C9-9F01-1ABCA9858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8135-FD19-4AD0-921D-D1AB69D1B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99840" y="-360"/>
            <a:ext cx="83804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9634-AEF0-4D90-B156-D6BFD29A47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5E5E-8FC6-4217-B657-D7226ED539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23600" y="469116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E852-15D0-48D3-8C26-2CCD07911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3600" y="1523520"/>
            <a:ext cx="468432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691160"/>
            <a:ext cx="9599400" cy="28926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6701-536E-4997-92B0-E23DC57C2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9320" indent="-4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0216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D53-498F-4E5D-AC22-F1A71254120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76720" y="1891800"/>
            <a:ext cx="6780240" cy="13194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157960" y="69339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956C-28A7-4E61-AF9A-4D2E92159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507960" y="1774800"/>
            <a:ext cx="91346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Bell Ringer</a:t>
            </a: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is best considered as a Is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810252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34A-C60F-4115-845F-6D5FC2CDB714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0440" cy="106524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old"/>
              </a:rPr>
              <a:t>TOC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560" y="1523520"/>
            <a:ext cx="95994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0: Parts of a map c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8102520" y="6915240"/>
            <a:ext cx="45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02B9-D7A0-4042-9645-DD8A854C10D0}" type="slidenum"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e6ffd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9360" y="168876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85480"/>
                <a:tab algn="l" pos="10566360"/>
                <a:tab algn="l" pos="109728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p-Representation of the Earth’s features drawn on a flat surfa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85480"/>
                <a:tab algn="l" pos="10566360"/>
                <a:tab algn="l" pos="10972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 use symbols and colors to represent features of an area or real 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2800" y="-3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50760"/>
                <a:tab algn="l" pos="1066680"/>
                <a:tab algn="l" pos="208296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98080"/>
                <a:tab algn="l" pos="10566360"/>
                <a:tab algn="l" pos="109728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Arial Bold"/>
              </a:rPr>
              <a:t>Features on a Map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lnSpc>
                <a:spcPct val="90000"/>
              </a:lnSpc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 Bold"/>
                <a:ea typeface="Arial Bold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identif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purpose of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explains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mea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of symbols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Scale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distance on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compared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 Bold"/>
                <a:ea typeface="Arial Bold"/>
              </a:rPr>
              <a:t>Date of Pub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 when the map wa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060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0">
              <a:buNone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Arial Bold"/>
                <a:ea typeface="Arial Bold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neatly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spell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ot should be used to locate cities-name close to d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ff2712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do not block  information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lnSpc>
                <a:spcPct val="100000"/>
              </a:lnSpc>
              <a:buClr>
                <a:srgbClr val="000000"/>
              </a:buClr>
              <a:buFont typeface="Arial Bold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4fe"/>
                </a:solidFill>
                <a:latin typeface="Arial Bold"/>
                <a:ea typeface="Arial Bold"/>
              </a:rPr>
              <a:t>Coloring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Shade consistently --no light or dark patches of one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White or black is not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Grey-used for areas not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156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</a:rPr>
              <a:t>Blue-used for water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ctr">
            <a:noAutofit/>
          </a:bodyPr>
          <a:p>
            <a:pPr marL="49320" indent="0">
              <a:buNone/>
              <a:tabLst>
                <a:tab algn="l" pos="0"/>
                <a:tab algn="l" pos="50760"/>
                <a:tab algn="l" pos="1066680"/>
                <a:tab algn="l" pos="208296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9182160"/>
                <a:tab algn="l" pos="10198080"/>
                <a:tab algn="l" pos="10566360"/>
                <a:tab algn="l" pos="10972800"/>
              </a:tabLst>
            </a:pPr>
            <a:r>
              <a:rPr b="0" lang="en-US" sz="4000" spc="-1" strike="noStrike">
                <a:solidFill>
                  <a:srgbClr val="0044fe"/>
                </a:solidFill>
                <a:latin typeface="Arial Bold"/>
              </a:rPr>
              <a:t>Points on a Compass</a:t>
            </a:r>
            <a:endParaRPr b="0" lang="en-US" sz="40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589880" cy="6064200"/>
          </a:xfrm>
          <a:prstGeom prst="rect">
            <a:avLst/>
          </a:prstGeom>
          <a:noFill/>
          <a:ln w="0">
            <a:noFill/>
          </a:ln>
        </p:spPr>
        <p:txBody>
          <a:bodyPr lIns="50760" rIns="101520" tIns="50760" bIns="50760" anchor="t">
            <a:normAutofit/>
          </a:bodyPr>
          <a:p>
            <a:pPr marL="426960" indent="-377640"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ss is a way of find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cardinal points= N, E, S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2 ordinal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NE, SE, SW, NW, NNE, ENE, ESE, SSE, SSW, WSW, WNW, N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7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66680"/>
                <a:tab algn="l" pos="2070000"/>
                <a:tab algn="l" pos="3086280"/>
                <a:tab algn="l" pos="4102200"/>
                <a:tab algn="l" pos="5118120"/>
                <a:tab algn="l" pos="6134040"/>
                <a:tab algn="l" pos="7149960"/>
                <a:tab algn="l" pos="816624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s all have corresponding degrees of a circle (0° → 36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6904080" y="4100400"/>
            <a:ext cx="2622600" cy="28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I.W. Marlatt</dc:creator>
  <dc:description/>
  <cp:keywords/>
  <dc:language>en-US</dc:language>
  <cp:lastModifiedBy>TylerDaughtry</cp:lastModifiedBy>
  <dcterms:modified xsi:type="dcterms:W3CDTF">2013-09-06T17:26:38Z</dcterms:modified>
  <cp:revision>3</cp:revision>
  <dc:subject/>
  <dc:title>Slide 1</dc:title>
</cp:coreProperties>
</file>